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3E0328B-DCE3-4F74-81A6-D0E23F5D6916}"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648AC44-7CBA-415E-8A23-4C93B3E67440}"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7A2E1-DE23-45E8-85E5-BF6D0F26B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3FDAF-18D6-42E6-9917-18D13B6A2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CF889-1788-48B9-A1F8-CC1B086E8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FFC00-831A-40BA-A9B5-C2136210A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7B693-30AA-488B-A621-0BBF37200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7BC82-3740-4B76-95E0-19290CF99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C42B3-7EC8-44F9-8688-53E0BDB29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837B4-88D3-4505-AFB9-035A306AD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ACA8B-1C7E-4894-9BE6-45560033F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8B730-F0CD-4E97-9DBD-8E537B29B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58683-4E05-4EDE-9065-EDB4127DB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688FC-25B4-4C16-A106-E6B42EFBF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428E1-59E5-4992-B633-13127B58C181}"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6888240" y="655560"/>
            <a:ext cx="1785960" cy="42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970EE-F0FA-41AB-8960-18FBEEF2F45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8FDE-0A40-4EE3-A4B3-BB8AB580065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B662-06E0-4057-84D1-EE342F78116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4F6AB-EF45-44CD-91AF-FD11D33007D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EED9-2A03-450D-B448-9FECC9EDA7C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884B7-8056-441A-9FDD-FD95C40A33E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19CE1-5579-4E30-8837-EF299A19661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36347-22B6-46FD-A5EF-DB648B27851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E7E3-25D5-4B37-9D1A-CF3DD860E73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B8D0-27DB-4505-8787-FE49A91BCFE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346A-81FC-46C8-937A-C744495CEC9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3BE0-25D5-47A7-A6C5-C3AB6DDAD18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15F8D-4EE0-432F-8280-39370384F7F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3C6D-FF5C-4BA8-B989-F6BA05B00F7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4FD18-812A-46A0-97EE-7496414E16E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43D3-6202-48C6-B638-9F9651D653E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904FF-58BB-4E19-8099-09E67D3875F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9763D-C404-4ECC-8EC1-6AE9148E7A0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82094-8A14-4860-B619-ED3B53A4FF2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CE8B-09BA-460A-B66C-18E8ADEAA06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EB66-4429-4A3E-960B-0498C4E9CBB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C5648-A4E4-4396-9A45-BD2199C233D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F420-D631-4FCB-A906-91EAA389007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6E2A-4F8D-401A-86BF-5038C742384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AEDE-76A4-472A-AF48-9F15F21B548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391F-D9A8-421A-BECD-38636098FCA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8AE2-4189-42E0-886D-A7C24498989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0B06F-8235-42CB-A745-DF4B8F868F9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C9F64-FB05-4BE2-BA00-D5974311A12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29DE2-C525-447A-916E-E0C66EBEA1A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5B9FE-4870-480E-80AA-20920445D45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04FD-5B85-4517-BEDA-B4C2DB315F3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3E17-EF01-4C66-8443-3B9AD6B3C06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0BE4-01E0-4514-8F56-4404D670701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1BF43-EA13-4735-A093-32685C4987A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0A572-3806-47A5-A65B-082FD3BB583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6BA9C-F9FF-4042-8451-97A5576F20A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6B18-1D82-404C-8A9D-F694B0B0937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6BFF-2B55-40B5-9604-C9EF36867C3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CF6A8-0B19-4A35-92F6-23C67EDCEF4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AE4B-4387-4331-9B42-BBCD7578986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9-01-24T11:27:36Z</dcterms:modified>
  <cp:revision>73</cp:revision>
  <dc:subject/>
  <dc:title>Aims and Objectives</dc:title>
</cp:coreProperties>
</file>